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7461-9DDC-4416-A912-ABE59455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241C-FBD7-46D7-904D-ABEC0260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3C37-755A-437A-9F14-BBE584EC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B4CD-25F5-4272-8A01-E8D890EC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9DB7-4792-4695-9B6D-2520E804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A29-0BFF-4A12-B0B0-17E41960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AB2D-675A-4A56-BCAB-E45BF30C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4F6-46AC-4730-A2AB-901FD096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D588-5F6E-4E48-A36A-E6BE8E8F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414F-A621-49D8-99A7-FB47D21E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E5F8-8ED8-4CAF-82DC-FA88F2D1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2EE4-0216-4B49-8076-FCCF681E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CB1E-7414-4CD7-9901-77F5BC3E6A6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Practice 1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71280" y="730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00040" y="1424160"/>
            <a:ext cx="792972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σωτηρ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ρχο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λπιδ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μητερ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νυκ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σαρκ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χερ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Σιμων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3800520" y="224964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3786120" y="2759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3786120" y="32558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3786120" y="3770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3786120" y="426708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3786120" y="47894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2"/>
          <p:cNvSpPr/>
          <p:nvPr/>
        </p:nvSpPr>
        <p:spPr>
          <a:xfrm>
            <a:off x="3786120" y="528624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3786120" y="579744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Practice 2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71280" y="730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14200" y="1285920"/>
            <a:ext cx="492948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in the form indic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νηρ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υνη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υς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χειρ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cusative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αρξ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ive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χαρις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θυγατηρ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minative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ἰων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143680" y="200016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νδρ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143680" y="251784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υναιξ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143680" y="302724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δ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143680" y="354168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χειρ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143680" y="404496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αρκ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143680" y="45385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χαρι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5143680" y="505764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θυγατερ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5143680" y="555768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ἰωσ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Practice 3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71280" y="730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3 NEUTER NOUNS WI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ONANT STEM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785880" y="1928880"/>
            <a:ext cx="7572240" cy="34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νευματ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ληματ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ῥημα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ὀνοματ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572000" y="26956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572000" y="319716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4572000" y="36957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/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4572000" y="421164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Practice 4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71280" y="730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3 NEUTER NOUNS WI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ONANT STEM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500040" y="1643040"/>
            <a:ext cx="47149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 in the form ind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ἱμα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νευμα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ωμα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ὀνομα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5429160" y="2730600"/>
            <a:ext cx="200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ἱμ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5429160" y="3236760"/>
            <a:ext cx="200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νευματ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5429160" y="3751200"/>
            <a:ext cx="200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ωμα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5429160" y="4292640"/>
            <a:ext cx="200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ὀνομα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Practice 5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85840" y="1571760"/>
            <a:ext cx="542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σωτηρ ἐστιν ὁ Ἰησου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υἱος του πατρος ἐφυγ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χω ἀγαθην μητερ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ἰδον τους πατερας αὐτ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βαπτιζει ὑδατ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ἱ ἀνδρες ἐχηλθ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714920" y="23162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Jesus the savio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4714920" y="284328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father’s son f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4714920" y="334332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have a good m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4714920" y="385776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saw their fa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4714920" y="435780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baptizes with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4714920" y="48578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men le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Practice 6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285840" y="1571760"/>
            <a:ext cx="421488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Χριστος ἀπεθανεν ὑπερ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νδρων και γυναικ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οιετε το θελημα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e loves two wo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spirit does not like th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fle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have big f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y saw the l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4714920" y="231624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rist died on behalf of men and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4714920" y="334332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have a good m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4714920" y="38163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φιλει δυο γυναικα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4714920" y="431964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 πνευμα οὐ φιλει την σαρκ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4714920" y="53118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χω μεγαλους ποδα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4714920" y="582444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δον το φω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244440" y="71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4 ADJECTIVES WI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285840" y="1571760"/>
            <a:ext cx="4714920" cy="32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λειονες στρατιωται ἐχ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χεις μειζονα κεφαλην μ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Ἰησους εἰχεν πλειονας μαθητας ἠ Ἰωαννη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ροφητης εἰμι μειζονος ἱερο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5000760" y="23162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re soldiers are co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5000760" y="284328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have a bigger head than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5000760" y="334332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d Jesus have more disciples than Joh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4997520" y="432756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am a prophet of a greater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285840" y="1187280"/>
            <a:ext cx="542916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ίς ἐρχε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θελω ἀρτον τιν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ί φιλειτε τον Χριστ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ερι τίων εἰπ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ατερες τινες εἰσιν πονηρο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ίνα ζητει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y are you (s.) pray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o whom did you (pl.) spea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ome prophets are cal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at law do you (pl.) kee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4714920" y="183816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o is com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4714920" y="22525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want some br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4714920" y="263700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y do you (pl.) love Chri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4714920" y="30384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bout what 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whom- both plural) did he spea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4714920" y="38210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fathers are wic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4711680" y="42116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om (pl.) are you seek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Practice 8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244440" y="2588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5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ι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ίς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714920" y="458316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ί προσευχῃ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4714920" y="498168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ίνι εἰπε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4714920" y="537696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φηται τινες καλουσ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3"/>
          <p:cNvSpPr/>
          <p:nvPr/>
        </p:nvSpPr>
        <p:spPr>
          <a:xfrm>
            <a:off x="4714920" y="574056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ίνα νομον τηρει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1:53:05Z</dcterms:created>
  <dc:creator>Sarah</dc:creator>
  <dc:description/>
  <dc:language>en-US</dc:language>
  <cp:lastModifiedBy>Sarah</cp:lastModifiedBy>
  <dcterms:modified xsi:type="dcterms:W3CDTF">2008-09-25T21:45:11Z</dcterms:modified>
  <cp:revision>31</cp:revision>
  <dc:subject/>
  <dc:title>Slide 1</dc:title>
</cp:coreProperties>
</file>